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6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C070-0FDB-4828-9E6A-3EA01FEC5DF3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5DD2-B205-4D50-BE5C-E8C2AAFC207B}" type="slidenum">
              <a:rPr b="0" lang="hr-H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E158-9237-4F0C-ADA9-E9EB92B26CE9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1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DDAD-0376-4D4F-9A3B-55843036EDAC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9911-1D30-4CDD-B1E1-777CC9BA6E0F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1DB5-7FA1-4F44-9178-84DB6B5288D1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0737-D435-438D-AAA6-EF3662059BC0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0A33-0ACE-44EE-B32C-E2F906A6DAB4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DCE2-1213-49FF-92B2-5189B8363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FF69-10E9-40AB-995D-E059B8FE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755C-DC53-4D7A-9D4D-C7828D956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8A4C-3801-4BB0-A53B-83C199517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E6AF-9B35-4D39-93BC-A565DB78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5E4C-0BBD-499D-B21B-21B99129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9E68-F695-4160-B39D-7CF1A2C5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8BBB-22FF-471F-A536-755D5E60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98CE-FB78-4623-AF63-63AE9532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0739-FC41-4E35-8159-5F0C72C9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E0C9-C583-4050-A921-2AF82FE0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536D-C9C7-493B-BC35-3F4C79B3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A41C-D8AF-4B33-B81E-397BF38B081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2060640"/>
            <a:ext cx="91440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66cc"/>
                </a:solidFill>
                <a:latin typeface="Calibri"/>
              </a:rPr>
              <a:t>GRAD RIJE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66cc"/>
                </a:solidFill>
                <a:latin typeface="Calibri"/>
              </a:rPr>
              <a:t>(MFSA) Samo-procjena lokalnih financi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1859c"/>
                </a:solidFill>
                <a:latin typeface="Calibri"/>
              </a:rPr>
              <a:t>Ante Mađeri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1859c"/>
                </a:solidFill>
                <a:latin typeface="Calibri"/>
              </a:rPr>
              <a:t>Pročelnik odjela za finan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IMG_1141"/>
          <p:cNvPicPr/>
          <p:nvPr/>
        </p:nvPicPr>
        <p:blipFill>
          <a:blip r:embed="rId1"/>
          <a:stretch/>
        </p:blipFill>
        <p:spPr>
          <a:xfrm>
            <a:off x="0" y="5013360"/>
            <a:ext cx="3424320" cy="1844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IMG_4104"/>
          <p:cNvPicPr/>
          <p:nvPr/>
        </p:nvPicPr>
        <p:blipFill>
          <a:blip r:embed="rId2"/>
          <a:stretch/>
        </p:blipFill>
        <p:spPr>
          <a:xfrm>
            <a:off x="3419640" y="5013360"/>
            <a:ext cx="2966760" cy="1844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IMG_1046"/>
          <p:cNvPicPr/>
          <p:nvPr/>
        </p:nvPicPr>
        <p:blipFill>
          <a:blip r:embed="rId3"/>
          <a:stretch/>
        </p:blipFill>
        <p:spPr>
          <a:xfrm>
            <a:off x="2627280" y="0"/>
            <a:ext cx="3156120" cy="170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IMG_1117"/>
          <p:cNvPicPr/>
          <p:nvPr/>
        </p:nvPicPr>
        <p:blipFill>
          <a:blip r:embed="rId4"/>
          <a:stretch/>
        </p:blipFill>
        <p:spPr>
          <a:xfrm>
            <a:off x="0" y="0"/>
            <a:ext cx="2627280" cy="1700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IMG_0119"/>
          <p:cNvPicPr/>
          <p:nvPr/>
        </p:nvPicPr>
        <p:blipFill>
          <a:blip r:embed="rId5"/>
          <a:stretch/>
        </p:blipFill>
        <p:spPr>
          <a:xfrm>
            <a:off x="5722920" y="0"/>
            <a:ext cx="3421080" cy="1700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" descr="FM002"/>
          <p:cNvPicPr/>
          <p:nvPr/>
        </p:nvPicPr>
        <p:blipFill>
          <a:blip r:embed="rId6"/>
          <a:stretch/>
        </p:blipFill>
        <p:spPr>
          <a:xfrm>
            <a:off x="6380280" y="5013360"/>
            <a:ext cx="27637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MFSA u Gradu Rije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360" y="11970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Grad Rijeka se uključio u Program “Samo-procjene lokalnih financija” u samom početku – krajem 2011. god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Tijekom 2012. godine izrađena je Procjena financija Grada Rijeke, te je donesen Plan za financijska poboljš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očetkom 2014. godine izrađen je i skraćeni prikaz tzv. “City view” koji 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rezenriran 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ublikaciji W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rcRect l="9248" t="21099" r="7476" b="8932"/>
          <a:stretch/>
        </p:blipFill>
        <p:spPr>
          <a:xfrm>
            <a:off x="3348000" y="3141720"/>
            <a:ext cx="5616720" cy="36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Što nam je MFSA ukaza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MFSA nam je pomogao u prepoznavanju slabosti  i prilika , te detektiranju izazova koje treba riješit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4478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Izazovi u planiranj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4478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rimarni suficit vs. defic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4478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Veliki udio vlastitih priho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4478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Racionalna u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4478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Nepredvidivost prihoda od poreza na dohod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REZULTAT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LAN FINANCIJSKIH POBOLJŠ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(Akcijski 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ight Arrow 3"/>
          <p:cNvSpPr/>
          <p:nvPr/>
        </p:nvSpPr>
        <p:spPr>
          <a:xfrm>
            <a:off x="2556000" y="5300640"/>
            <a:ext cx="1439640" cy="216000"/>
          </a:xfrm>
          <a:prstGeom prst="rightArrow">
            <a:avLst>
              <a:gd name="adj1" fmla="val 50000"/>
              <a:gd name="adj2" fmla="val 4995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2 cilj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Plan financijskih poboljšanj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Diagram 5" descr=""/>
          <p:cNvPicPr/>
          <p:nvPr/>
        </p:nvPicPr>
        <p:blipFill>
          <a:blip r:embed="rId1"/>
          <a:stretch/>
        </p:blipFill>
        <p:spPr>
          <a:xfrm>
            <a:off x="822240" y="1962000"/>
            <a:ext cx="75596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1. cilj -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oboljšati financijsko stanje lokalne jedinic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11" descr="Specifični cilj 1a.jpg"/>
          <p:cNvPicPr/>
          <p:nvPr/>
        </p:nvPicPr>
        <p:blipFill>
          <a:blip r:embed="rId1"/>
          <a:srcRect l="8372" t="11768" r="26373" b="50048"/>
          <a:stretch/>
        </p:blipFill>
        <p:spPr>
          <a:xfrm>
            <a:off x="179280" y="1341360"/>
            <a:ext cx="8526600" cy="3527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stock-vector-yes-no-check-marks-stickers-115979833.jpg"/>
          <p:cNvPicPr/>
          <p:nvPr/>
        </p:nvPicPr>
        <p:blipFill>
          <a:blip r:embed="rId2"/>
          <a:srcRect l="52523" t="5036" r="10765" b="54795"/>
          <a:stretch/>
        </p:blipFill>
        <p:spPr>
          <a:xfrm>
            <a:off x="8648640" y="2492280"/>
            <a:ext cx="316080" cy="358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RTG8MrzTL.png"/>
          <p:cNvPicPr/>
          <p:nvPr/>
        </p:nvPicPr>
        <p:blipFill>
          <a:blip r:embed="rId3"/>
          <a:stretch/>
        </p:blipFill>
        <p:spPr>
          <a:xfrm>
            <a:off x="8675640" y="2997360"/>
            <a:ext cx="360360" cy="449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stock-vector-yes-no-check-marks-stickers-115979833.jpg"/>
          <p:cNvPicPr/>
          <p:nvPr/>
        </p:nvPicPr>
        <p:blipFill>
          <a:blip r:embed="rId4"/>
          <a:srcRect l="8348" t="5030" r="49983" b="55063"/>
          <a:stretch/>
        </p:blipFill>
        <p:spPr>
          <a:xfrm>
            <a:off x="8677440" y="357336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" descr=""/>
          <p:cNvPicPr/>
          <p:nvPr/>
        </p:nvPicPr>
        <p:blipFill>
          <a:blip r:embed="rId5"/>
          <a:stretch/>
        </p:blipFill>
        <p:spPr>
          <a:xfrm>
            <a:off x="8653320" y="4145040"/>
            <a:ext cx="43200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1. cilj -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oboljšati financijsko stanje lokalne jedinic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Content Placeholder 6" descr="Specifični cilj 1b.jpg"/>
          <p:cNvPicPr/>
          <p:nvPr/>
        </p:nvPicPr>
        <p:blipFill>
          <a:blip r:embed="rId1"/>
          <a:srcRect l="8372" t="11768" r="25248" b="54822"/>
          <a:stretch/>
        </p:blipFill>
        <p:spPr>
          <a:xfrm>
            <a:off x="108000" y="1628640"/>
            <a:ext cx="8497800" cy="3024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stock-vector-yes-no-check-marks-stickers-115979833.jpg"/>
          <p:cNvPicPr/>
          <p:nvPr/>
        </p:nvPicPr>
        <p:blipFill>
          <a:blip r:embed="rId2"/>
          <a:srcRect l="8348" t="5030" r="49983" b="55063"/>
          <a:stretch/>
        </p:blipFill>
        <p:spPr>
          <a:xfrm>
            <a:off x="8604360" y="263700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stock-vector-yes-no-check-marks-stickers-115979833.jpg"/>
          <p:cNvPicPr/>
          <p:nvPr/>
        </p:nvPicPr>
        <p:blipFill>
          <a:blip r:embed="rId3"/>
          <a:srcRect l="8348" t="5030" r="49983" b="55063"/>
          <a:stretch/>
        </p:blipFill>
        <p:spPr>
          <a:xfrm>
            <a:off x="8604360" y="357336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stock-vector-yes-no-check-marks-stickers-115979833.jpg"/>
          <p:cNvPicPr/>
          <p:nvPr/>
        </p:nvPicPr>
        <p:blipFill>
          <a:blip r:embed="rId4"/>
          <a:srcRect l="8348" t="5030" r="49983" b="55063"/>
          <a:stretch/>
        </p:blipFill>
        <p:spPr>
          <a:xfrm>
            <a:off x="8604360" y="407664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" descr=""/>
          <p:cNvPicPr/>
          <p:nvPr/>
        </p:nvPicPr>
        <p:blipFill>
          <a:blip r:embed="rId5"/>
          <a:stretch/>
        </p:blipFill>
        <p:spPr>
          <a:xfrm>
            <a:off x="8602560" y="3071880"/>
            <a:ext cx="43344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2. cilj -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oboljšati financijsko upravljanje u lokalnoj jedinici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7" descr="Specifični cilj 2.jpg"/>
          <p:cNvPicPr/>
          <p:nvPr/>
        </p:nvPicPr>
        <p:blipFill>
          <a:blip r:embed="rId1"/>
          <a:srcRect l="7248" t="14953" r="26504" b="49138"/>
          <a:stretch/>
        </p:blipFill>
        <p:spPr>
          <a:xfrm>
            <a:off x="0" y="1628640"/>
            <a:ext cx="8453520" cy="3240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stock-vector-yes-no-check-marks-stickers-115979833.jpg"/>
          <p:cNvPicPr/>
          <p:nvPr/>
        </p:nvPicPr>
        <p:blipFill>
          <a:blip r:embed="rId2"/>
          <a:srcRect l="8348" t="5030" r="49983" b="55063"/>
          <a:stretch/>
        </p:blipFill>
        <p:spPr>
          <a:xfrm>
            <a:off x="8388360" y="263700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stock-vector-yes-no-check-marks-stickers-115979833.jpg"/>
          <p:cNvPicPr/>
          <p:nvPr/>
        </p:nvPicPr>
        <p:blipFill>
          <a:blip r:embed="rId3"/>
          <a:srcRect l="8348" t="5030" r="49983" b="55063"/>
          <a:stretch/>
        </p:blipFill>
        <p:spPr>
          <a:xfrm>
            <a:off x="8388360" y="386064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stock-vector-yes-no-check-marks-stickers-115979833.jpg"/>
          <p:cNvPicPr/>
          <p:nvPr/>
        </p:nvPicPr>
        <p:blipFill>
          <a:blip r:embed="rId4"/>
          <a:srcRect l="8348" t="5030" r="49983" b="55063"/>
          <a:stretch/>
        </p:blipFill>
        <p:spPr>
          <a:xfrm>
            <a:off x="8388360" y="43657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RTG8MrzTL.png"/>
          <p:cNvPicPr/>
          <p:nvPr/>
        </p:nvPicPr>
        <p:blipFill>
          <a:blip r:embed="rId5"/>
          <a:stretch/>
        </p:blipFill>
        <p:spPr>
          <a:xfrm>
            <a:off x="8459640" y="3195720"/>
            <a:ext cx="360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3T12:02:03Z</dcterms:created>
  <dc:creator>madjeric_ante</dc:creator>
  <dc:description/>
  <dc:language>en-US</dc:language>
  <cp:lastModifiedBy>Mađerić Ante</cp:lastModifiedBy>
  <cp:lastPrinted>2019-03-20T13:38:27Z</cp:lastPrinted>
  <dcterms:modified xsi:type="dcterms:W3CDTF">2019-03-22T07:49:29Z</dcterms:modified>
  <cp:revision>228</cp:revision>
  <dc:subject/>
  <dc:title>Slide 1</dc:title>
</cp:coreProperties>
</file>